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F1F8-1BE4-4A10-B707-A6BC1077AA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compounds - covalent (molecular) and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formula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lemental analysis, empirical formula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lar masses with empirical formulas --&gt; chemical </a:t>
            </a:r>
            <a:r>
              <a:rPr b="0" lang="en-US" sz="1200" spc="-1" strike="noStrike">
                <a:solidFill>
                  <a:srgbClr val="ffffff"/>
                </a:solidFill>
                <a:latin typeface="Times New Roman"/>
              </a:rPr>
              <a:t>	</a:t>
            </a:r>
            <a:r>
              <a:rPr b="0" lang="en-US" sz="1200" spc="-1" strike="noStrike">
                <a:solidFill>
                  <a:srgbClr val="ffffff"/>
                </a:solidFill>
                <a:latin typeface="Times New Roman"/>
              </a:rPr>
              <a:t>formul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ressing chemical equ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ichiometric calcul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ing Reactant : determines amount of product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etical yields vs actual yiel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mpounds - covalent (molecular) and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form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lemental analysis, empirical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lar masses with empirical formulas --&gt; chemical </a:t>
            </a:r>
            <a:r>
              <a:rPr b="0" lang="en-GB" sz="1200" spc="-1" strike="noStrike">
                <a:solidFill>
                  <a:srgbClr val="000000"/>
                </a:solidFill>
                <a:latin typeface="Times New Roman"/>
              </a:rPr>
              <a:t>	</a:t>
            </a:r>
            <a:r>
              <a:rPr b="0" lang="en-GB"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ressing 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ichiometric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ing Reactant : determines amount of product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 yields vs actual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umns are called GROUPS (FAMILIES) and rows are called PERIO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a group have similar chemical and physical properti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 are called GROUPS (FAMILIES) and rows are called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a group have similar chemical and physical prope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otal number of electrons within a group is different, increasing in number down a gro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e number of electrons furthest away from the nucleus, called the OUTER or VALENCE electrons is the same for all elements in a grou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electrons within a group is different, increasing in number down a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number of electrons furthest away from the nucleus, called the OUTER or VALENCE electrons is the same for all elements in a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s are referred to by names, which often derive from thei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 Alkali metals; II – Alkaline Earth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I – Halogens; VIII – Noble gas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in the middle block are called 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re referred to by names, which often derive from thei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Alkali metals; II – Alkaline Earth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I – Halogens; VIII –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middle block are called 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in the A group are diverse; metals and non-metals, solids and gases at room 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all metals, and are solids at room temp, except for H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ong the transition elements are two sets of 14 elements - the LANTHANIDES and the ACTINID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in the A group are diverse; metals and non-metals, solids and gases at room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all metals, and are solids at room temp, except for H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e transition elements are two sets of 14 elements - the LANTHANIDES and the ACTIN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cal and Chemical properties such as melting points, thermal and electrical conductivity, atomic size, vary systematically across 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within a column have similar proper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Chemical properties such as melting points, thermal and electrical conductivity, atomic size, vary systematically acros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within a column have simila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ic radius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omic radius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zig-zag” division of the table divides metals from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to the left of the zig-zag line are metals (except for hydrogen, which is unique) and to the right are non-metal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ments along the border have intermediate properties and are called metalloi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zig-zag” division of the table divides metals from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to the left of the zig-zag line are metals (except for hydrogen, which is unique) and to the right are non-me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long the border have intermediate properties and are called metall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cal Bond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hemical bond results from strong electrostatic interactions between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ature of the atoms determines the kind of bon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bonds result from a strong interaction between NEUTRAL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atom donates an electron resulting in a pair of electrons that are SHARED between the two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bond results from strong electrostatic interactions between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oms determines the kind of b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bonds result from a strong interaction between NEUTRAL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 donates an electron resulting in a pair of electrons that are SHARED between the tw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ega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ype of bond formed between a pair of atoms is determined by the ability of the atoms to attract electrons from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eg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nd formed between a pair of atoms is determined by the ability of the atoms to attract electrons from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ly charged ion (CATION) is formed when an atom looses one or more electrons and a negatively charged ion (ANION) is formed when an atom accepts one or more elec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isolated atom its ability to loose an electron is measured by its IONIZATION ENERGY, while the ability to gain an electron is measured by its 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Metallic elements loose electrons (to form positive ions) more readily than non-metallic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elements are hence referred to as being more ELECTROPOSITIVE that non-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s are more ELECTRONEGATIVE compared to meta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of these two properties for isolated atoms define the atom’s ELECTRONEGATIVITY which measures the tendency of one atom to attract electrons from another atom to which it is  bo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etallic elements loose electrons (to form positive ions) more readily than non-metallic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elements are hence referred to as being more ELECTROPOSITIVE that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ELECTRONEGATIVE compared to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allows for a comparative scale for the electronegativity of elemen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s arrangement results in a separation of metals from non-metals (metallic nature increasing to the left and down, non metallic increasing right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for a comparative scale for the electronegativity of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uorine is the most electronegative element, and francium the least electronega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ine is the most electronegative element, and francium the least electro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er differences result in a more equitable “sharing” of electrons between the bonded atoms, resulting in a COVALENT bond between the two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ds of bonds formed between elements (covalent vs ionic) can be determined by comparing electronegativity of the two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differences result in a more equitable “sharing” of electrons between the bonded atoms, resulting in a COVALENT bond between the two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bonds formed between elements (covalent vs ionic) can be determined by comparing electronegativity of the two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and Cl form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 gives up an electron and Cl accepts the electron to form Na+ and Cl-.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and Cl form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gives up an electron and Cl accepts the electron to form Na+ and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fferences between electronegativity between the two bonding elements decreases, there is more equitable sharing of electrons and the elements form covalent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d on the position of elements in the periodic table, we can determine the kind of bond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nmetallic element + nonmetallic element  Molecular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ar compounds are typically gases, liquids, or low melting point solids and are characteristically poor conductors. Examples are H2O, CH4, NH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osition of elements in the periodic table, we can determine the kind of bond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lic element + nonmetallic element  Molecular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ompounds are typically gases, liquids, or low melting point solids and are characteristically poor conductors. Examples are H2O, CH4,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lic compound + nonmetallic compound  IONIC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c compounds are generally high-melting solids that are good conductors of heat and electricity in the molten stat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re NaCl, common salt, and NaF, sodium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ic compound + nonmetallic compound  IO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c compounds are generally high-melting solids that are good conductors of heat and electricity in the molten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re NaCl, common salt, and NaF, sodium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hemical formula represents the composition of each molecu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writing the chemical formula, in almost all cases the element farthest to the left of the periodic table is written firs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for example the chemical formula of a compound that contains one sulfur atom and six fluorine atoms is SF6.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the two elements are in the same period, the symbol of the element of that is lower in the group (i.e. heavier) is written first e.g. IF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formula represents the composition of each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riting the chemical formula, in almost all cases the element farthest to the left of the periodic table is written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example the chemical formula of a compound that contains one sulfur atom and six fluorine atoms is SF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elements are in the same period, the symbol of the element of that is lower in the group (i.e. heavier) is written first e.g. IF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naming covalent compounds, the name of the first element in the formula is unchang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ffix “-ide”  is added to the second ele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ften a prefix to the name of the second element indicates the number of the element in the compou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F6 – sulfur hexa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4O10 – tetraphosphorous dec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 – carbo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2 – carbon di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ming covalent compounds, the name of the first element in the formula is un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ffix “-ide”  is added to the second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a prefix to the name of the second element indicates the number of the element in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6 – sulfur hexa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O10 – tetraphosphorous dec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 – carbo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consider a hydrogen molecule, H2.  When the two hydrogen, H, atoms are far apart from each other they do not feel any interactio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y come closer each “feels” the presence of the ot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on on each H atom occupies a volume that covers both H atoms and a COVALENT bond is form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the bond has been formed, the two electrons are shared by BOTH H ato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onsider a hydrogen molecule, H2.  When the two hydrogen, H, atoms are far apart from each other they do not feel any inte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y come closer each “feels” the presence of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on each H atom occupies a volume that covers both H atoms and a COVALENT bond i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bond has been formed, the two electrons are shared by BOTH H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nary compounds of hydrogen are special cases.  They were discovered before a convention was adopted and hence their original names have stay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ydrogen forms binary compounds with almost all non-metals except the noble gas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F - hydrogen flu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Cl - hydrogen chlor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2S - hydrogen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H2O is not called dihydrogen mon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nary compounds of hydrogen are special cases.  They were discovered before a convention was adopted and hence their original names have st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gen forms binary compounds with almost all non-metals except the noble g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F - hydrogen flu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S - hydrogen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H2O is not called dihydrogen 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c molecules (containing C) have a separate nomencl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lecular formulas for compounds containing C and H (called hydrocarbons) are written with C first.  Example, CH4, C2H6, etc.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molecules (containing C) have a separate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formulas for compounds containing C and H (called hydrocarbons) are written with C first.  Example, CH4, C2H6,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NARY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ounds formed by elements on opposite sides of the periodic table which either give up (left side) or take up electrons (right si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ending on the atom, there can be an exchange of more than one electron resulting in charges greater than ±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formed by elements on opposite sides of the periodic table which either give up (left side) or take up electrons (righ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atom, there can be an exchange of more than one electron resulting in charges great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A – alkali metals – loose 1 e- to form +1 (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 A– alkaline earth metals –loose 2 e- to form +2 (Ca+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II A– loose three e- to form +3 (A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IV A– loose four e- to form +4 (Sn+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 A– accept three e- to form  –3 (N-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 A– accept two e- to form  –2 (O-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oup VIIA – accept one e- to form  –1 (Cl-1)</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 – alkali metals – loose 1 e- to form +1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 A– alkaline earth metals –loose 2 e- to form +2 (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 A– loose three e- to form +3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 A– loose four e- to form +4 (S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 A– accept three e- to form  –3 (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 A– accept two e- to form  –2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 – accept one e- to form  –1 (C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ming IONIC compoun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ons – suffix – “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Cl- is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xygen O2- is OX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2- is SULF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Na+, Ca2+, the name of the ion is the same except refer to the 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SODIUM ION or SODIUM C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Cl - sod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Cl2 - calcium chlori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ing IO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ons – suffix – “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l- is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O2- is 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2- is SULF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 Ca2+, the name of the ion is the same except refer to the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SODIUM ION or SODIUM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l - sod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l2 - calcium chlo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valent, charged compounds -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ive Molecular 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d the name with “ium” or “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H4+ is ammonium, H3O + is hydroniu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gative Molecular Ion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alent, charged compounds -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Molecula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the name with “ium” or “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4+ is ammonium, H3O + is hydron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Molecular 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ransition elements are chemically quite different from the metals in the “A” block, due to differences in electronic configur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Fe can loose two or three electrons to become Fe2+ and Fe3+, respective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ition Elem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elements are chemically quite different from the metals in the “A” block, due to differences in electronic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e can loose two or three electrons to become Fe2+ and Fe3+,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identify the charge of Fe in a compound the following nomenclature is used.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2+ is iron(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3+ is iron (III)</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iron(III) chloride is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ous chloride =&gt; FeCl2</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rric chloride =&gt; FeCl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ever, this convention does not indicate the numerical value of the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charge of Fe in a compound the following nomenclature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is iron(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3+ is iron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ron(III) chloride is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lder scheme differentiated between the lower and higher charge by ending the name of the element with “ous” to indicate the lower charge and “ic” for the hig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ous chloride =&gt; Fe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c chloride =&gt; FeC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convention does not indicate the numerical value of the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lectron density plot for the H2 molecule shows that the shared electrons occupy a volume equally distributed over BOTH H ato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on density plot for the H2 molecule shows that the shared electrons occupy a volume equally distributed over BOTH H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lso possible that, as two atoms come closer, one electron is transferred to the 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tom that gives up an electron acquires a +1 charge and the other atom, which accepts the electron acquires a –1 char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atoms are attracted to each other through Coulombic interactions – opposite charges attract – resulting in an IONIC bo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hat, as two atoms come closer, one electron is transferred to the 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that gives up an electron acquires a +1 charge and the other atom, which accepts the electron acquires a –1 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atoms are attracted to each other through Coulombic interactions – opposite charges attract – resulting in an IONIC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ential energy (kJ/mo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paration (Å)</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nergy (kJ/m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factors determine if an atom forms a covalent or ionic bond with another ato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mistry of an element depends almost entirely on the number of electrons, and hence its atomic numb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actors determine if an atom forms a covalent or ionic bond with another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electrons in an atom, particularly the number of the electrons furthest away from the nucleus determines the atom’s reactivity and hence its tendency to form covalent or ionic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utermost electrons are the one’s that are more likely to “feel” the presence of other atoms and hence the one’s involved in bonding i.e. in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of an element depends almost entirely on the number of electrons, and hence its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PERIODIC TA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1800’s it was realized that elements could be grouped by similar chemical properties and that the chemical and physical properties of elements are periodic functions of their atomic numbers –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s of the elements in order of increasing atomic number, with elements having similar properties placed in a vertical column, is calle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5DA65-3335-4CE7-A171-04F2B2FAF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31DB9-3FE3-4462-B3A1-4277887CA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5A3CD-6269-4B49-AEB7-75F7C2A6B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EA119-995B-4D57-8CF1-923247683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77E2C-6729-4E18-9525-041E3E22B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D07C-35BB-4045-8395-18BB2ADB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7B8F7-3A7A-43B8-8DF7-7DE6B497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2465F-E248-4D57-B975-A30B58F2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CF58-446C-4E50-A39B-77986A59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CFB5-7053-4DD8-ADFB-9EEEA136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DF74-DE21-4349-B354-1EC459DF8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62890-0117-4F92-8CD6-0509E3B5F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2968-7360-4364-9335-D8382F01E2A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cintosh HD:Documents:F1403_2002:CH 3:FlashElements.app"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cintosh HD:Documents:F1403_2002:CH 3:FlashElements.app"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304920"/>
            <a:ext cx="8839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compounds - covalent (molecular) and ioni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mical formul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lemental analysis, empirical formula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lar masses with empirical formulas --&gt; chemical </a:t>
            </a:r>
            <a:r>
              <a:rPr b="1" lang="en-US" sz="2400" spc="-1" strike="noStrike">
                <a:solidFill>
                  <a:srgbClr val="ffffff"/>
                </a:solidFill>
                <a:latin typeface="Arial"/>
              </a:rPr>
              <a:t>	</a:t>
            </a:r>
            <a:r>
              <a:rPr b="1" lang="en-US" sz="2400" spc="-1" strike="noStrike">
                <a:solidFill>
                  <a:srgbClr val="ffffff"/>
                </a:solidFill>
                <a:latin typeface="Arial"/>
              </a:rPr>
              <a:t>formul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ressing chemical equ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ichiometric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ing Reactant : determines amount of product form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etical yields vs actual yi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507960" y="355680"/>
            <a:ext cx="8128080" cy="614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6" descr=""/>
          <p:cNvPicPr/>
          <p:nvPr/>
        </p:nvPicPr>
        <p:blipFill>
          <a:blip r:embed="rId1"/>
          <a:stretch/>
        </p:blipFill>
        <p:spPr>
          <a:xfrm>
            <a:off x="76320" y="533520"/>
            <a:ext cx="8915400" cy="544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429000"/>
            <a:ext cx="9144000" cy="3276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lumns are called </a:t>
            </a:r>
            <a:r>
              <a:rPr b="1" lang="en-US" sz="2400" spc="-1" strike="noStrike">
                <a:solidFill>
                  <a:srgbClr val="ffff00"/>
                </a:solidFill>
                <a:latin typeface="Arial"/>
                <a:ea typeface="Times New Roman"/>
              </a:rPr>
              <a:t>GROUPS</a:t>
            </a:r>
            <a:r>
              <a:rPr b="1" lang="en-US" sz="2400" spc="-1" strike="noStrike">
                <a:solidFill>
                  <a:srgbClr val="ffffff"/>
                </a:solidFill>
                <a:latin typeface="Arial"/>
                <a:ea typeface="Times New Roman"/>
              </a:rPr>
              <a:t> (FAMILIES) and rows are called </a:t>
            </a:r>
            <a:r>
              <a:rPr b="1" lang="en-US" sz="2400" spc="-1" strike="noStrike">
                <a:solidFill>
                  <a:srgbClr val="ffff00"/>
                </a:solidFill>
                <a:latin typeface="Arial"/>
                <a:ea typeface="Times New Roman"/>
              </a:rPr>
              <a:t>PERIODS</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ments in a group have similar chemical and physical propertie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 name="Picture 6" descr=""/>
          <p:cNvPicPr/>
          <p:nvPr/>
        </p:nvPicPr>
        <p:blipFill>
          <a:blip r:embed="rId1"/>
          <a:stretch/>
        </p:blipFill>
        <p:spPr>
          <a:xfrm>
            <a:off x="1600200" y="76320"/>
            <a:ext cx="5410080" cy="33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885840"/>
            <a:ext cx="9144000" cy="2514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otal number of electrons within a group is different, increasing in number down a gro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e number of electrons furthest away from the nucleus, called the OUTER or </a:t>
            </a:r>
            <a:r>
              <a:rPr b="1" lang="en-US" sz="2400" spc="-1" strike="noStrike">
                <a:solidFill>
                  <a:srgbClr val="ffff00"/>
                </a:solidFill>
                <a:latin typeface="Arial"/>
                <a:ea typeface="Times New Roman"/>
              </a:rPr>
              <a:t>VALENCE</a:t>
            </a:r>
            <a:r>
              <a:rPr b="1" lang="en-US" sz="2400" spc="-1" strike="noStrike">
                <a:solidFill>
                  <a:srgbClr val="ffffff"/>
                </a:solidFill>
                <a:latin typeface="Arial"/>
                <a:ea typeface="Times New Roman"/>
              </a:rPr>
              <a:t> electrons is the same for all elements in a group.  </a:t>
            </a:r>
            <a:endParaRPr b="0" lang="en-US" sz="2400" spc="-1" strike="noStrike">
              <a:solidFill>
                <a:srgbClr val="ffffff"/>
              </a:solidFill>
              <a:latin typeface="Times New Roman"/>
            </a:endParaRPr>
          </a:p>
        </p:txBody>
      </p:sp>
      <p:pic>
        <p:nvPicPr>
          <p:cNvPr id="72" name="Picture 6"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 y="4267080"/>
            <a:ext cx="899172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s are referred to by names, which often derive from their propertie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 – Alkali metals; II – Alkaline Earth 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II – Halogens; VIII – Noble gases</a:t>
            </a:r>
            <a:endParaRPr b="0" lang="en-US" sz="2400" spc="-1" strike="noStrike">
              <a:solidFill>
                <a:srgbClr val="ffffff"/>
              </a:solidFill>
              <a:latin typeface="Times New Roman"/>
            </a:endParaRPr>
          </a:p>
        </p:txBody>
      </p:sp>
      <p:sp>
        <p:nvSpPr>
          <p:cNvPr id="74" name="Text Box 5"/>
          <p:cNvSpPr/>
          <p:nvPr/>
        </p:nvSpPr>
        <p:spPr>
          <a:xfrm>
            <a:off x="0" y="5959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ments in the middle block are called TRANSITION ELEMENTS</a:t>
            </a:r>
            <a:endParaRPr b="0" lang="en-US" sz="2400" spc="-1" strike="noStrike">
              <a:solidFill>
                <a:srgbClr val="ffffff"/>
              </a:solidFill>
              <a:latin typeface="Arial"/>
            </a:endParaRPr>
          </a:p>
        </p:txBody>
      </p:sp>
      <p:pic>
        <p:nvPicPr>
          <p:cNvPr id="75" name="Picture 15" descr=""/>
          <p:cNvPicPr/>
          <p:nvPr/>
        </p:nvPicPr>
        <p:blipFill>
          <a:blip r:embed="rId1"/>
          <a:stretch/>
        </p:blipFill>
        <p:spPr>
          <a:xfrm>
            <a:off x="1600200" y="76320"/>
            <a:ext cx="6400800" cy="39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809880"/>
            <a:ext cx="914400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in the A group are diverse; metals and non-metals, solids and gases at room temper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all metals, and are solids at room temp, except for H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mong the transition elements are two sets of 14 elements - the LANTHANIDES and the ACTINIDES</a:t>
            </a:r>
            <a:endParaRPr b="0" lang="en-US" sz="2400" spc="-1" strike="noStrike">
              <a:solidFill>
                <a:srgbClr val="ffffff"/>
              </a:solidFill>
              <a:latin typeface="Times New Roman"/>
            </a:endParaRPr>
          </a:p>
        </p:txBody>
      </p:sp>
      <p:pic>
        <p:nvPicPr>
          <p:cNvPr id="77"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75960" y="4495320"/>
            <a:ext cx="8762760" cy="22100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hysical and Chemical properties such as melting points, thermal and electrical conductivity, atomic size, vary systematically across 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within a column have similar properties</a:t>
            </a:r>
            <a:endParaRPr b="0" lang="en-US" sz="2400" spc="-1" strike="noStrike">
              <a:solidFill>
                <a:srgbClr val="ffffff"/>
              </a:solidFill>
              <a:latin typeface="Times New Roman"/>
            </a:endParaRPr>
          </a:p>
        </p:txBody>
      </p:sp>
      <p:pic>
        <p:nvPicPr>
          <p:cNvPr id="79" name="Picture 5" descr=""/>
          <p:cNvPicPr/>
          <p:nvPr/>
        </p:nvPicPr>
        <p:blipFill>
          <a:blip r:embed="rId1"/>
          <a:stretch/>
        </p:blipFill>
        <p:spPr>
          <a:xfrm>
            <a:off x="1600200" y="76320"/>
            <a:ext cx="6477120" cy="395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990720" y="76320"/>
            <a:ext cx="7010280" cy="3522600"/>
          </a:xfrm>
          <a:prstGeom prst="rect">
            <a:avLst/>
          </a:prstGeom>
          <a:ln w="0">
            <a:noFill/>
          </a:ln>
        </p:spPr>
      </p:pic>
      <p:sp>
        <p:nvSpPr>
          <p:cNvPr id="81" name="Text Box 4"/>
          <p:cNvSpPr/>
          <p:nvPr/>
        </p:nvSpPr>
        <p:spPr>
          <a:xfrm rot="16200000">
            <a:off x="-234720" y="1531800"/>
            <a:ext cx="206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radius (Å)</a:t>
            </a:r>
            <a:endParaRPr b="0" lang="en-US" sz="1800" spc="-1" strike="noStrike">
              <a:solidFill>
                <a:srgbClr val="ffffff"/>
              </a:solidFill>
              <a:latin typeface="Arial"/>
            </a:endParaRPr>
          </a:p>
        </p:txBody>
      </p:sp>
      <p:pic>
        <p:nvPicPr>
          <p:cNvPr id="82" name="Picture 5" descr=""/>
          <p:cNvPicPr/>
          <p:nvPr/>
        </p:nvPicPr>
        <p:blipFill>
          <a:blip r:embed="rId2"/>
          <a:stretch/>
        </p:blipFill>
        <p:spPr>
          <a:xfrm>
            <a:off x="2286000" y="3733920"/>
            <a:ext cx="4800600" cy="293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2"/>
          <p:cNvGrpSpPr/>
          <p:nvPr/>
        </p:nvGrpSpPr>
        <p:grpSpPr>
          <a:xfrm>
            <a:off x="1523880" y="838080"/>
            <a:ext cx="6096240" cy="3851280"/>
            <a:chOff x="1523880" y="838080"/>
            <a:chExt cx="6096240" cy="3851280"/>
          </a:xfrm>
        </p:grpSpPr>
        <p:graphicFrame>
          <p:nvGraphicFramePr>
            <p:cNvPr id="84" name="Object 2"/>
            <p:cNvGraphicFramePr/>
            <p:nvPr/>
          </p:nvGraphicFramePr>
          <p:xfrm>
            <a:off x="1523880" y="838080"/>
            <a:ext cx="6096240" cy="3851280"/>
          </p:xfrm>
          <a:graphic>
            <a:graphicData uri="http://schemas.openxmlformats.org/presentationml/2006/ole">
              <p:oleObj progId="Excel.Sheet.12" r:id="rId1" spid="">
                <p:embed/>
                <p:pic>
                  <p:nvPicPr>
                    <p:cNvPr id="85" name="Object 2" descr=""/>
                    <p:cNvPicPr/>
                    <p:nvPr/>
                  </p:nvPicPr>
                  <p:blipFill>
                    <a:blip r:embed="rId2"/>
                    <a:stretch/>
                  </p:blipFill>
                  <p:spPr>
                    <a:xfrm>
                      <a:off x="1523880" y="838080"/>
                      <a:ext cx="6096240" cy="3851280"/>
                    </a:xfrm>
                    <a:prstGeom prst="rect">
                      <a:avLst/>
                    </a:prstGeom>
                    <a:ln w="0">
                      <a:noFill/>
                    </a:ln>
                  </p:spPr>
                </p:pic>
              </p:oleObj>
            </a:graphicData>
          </a:graphic>
        </p:graphicFrame>
        <p:sp>
          <p:nvSpPr>
            <p:cNvPr id="86" name="Text Box 3"/>
            <p:cNvSpPr/>
            <p:nvPr/>
          </p:nvSpPr>
          <p:spPr>
            <a:xfrm>
              <a:off x="1981080" y="36576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a:t>
              </a:r>
              <a:endParaRPr b="0" lang="en-US" sz="1400" spc="-1" strike="noStrike">
                <a:solidFill>
                  <a:srgbClr val="ffffff"/>
                </a:solidFill>
                <a:latin typeface="Arial"/>
              </a:endParaRPr>
            </a:p>
          </p:txBody>
        </p:sp>
        <p:sp>
          <p:nvSpPr>
            <p:cNvPr id="87" name="Text Box 4"/>
            <p:cNvSpPr/>
            <p:nvPr/>
          </p:nvSpPr>
          <p:spPr>
            <a:xfrm>
              <a:off x="2133720" y="29718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
              </a:r>
              <a:endParaRPr b="0" lang="en-US" sz="1400" spc="-1" strike="noStrike">
                <a:solidFill>
                  <a:srgbClr val="ffffff"/>
                </a:solidFill>
                <a:latin typeface="Arial"/>
              </a:endParaRPr>
            </a:p>
          </p:txBody>
        </p:sp>
        <p:sp>
          <p:nvSpPr>
            <p:cNvPr id="88" name="Text Box 5"/>
            <p:cNvSpPr/>
            <p:nvPr/>
          </p:nvSpPr>
          <p:spPr>
            <a:xfrm>
              <a:off x="251460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Arial"/>
              </a:endParaRPr>
            </a:p>
          </p:txBody>
        </p:sp>
        <p:sp>
          <p:nvSpPr>
            <p:cNvPr id="89" name="Text Box 6"/>
            <p:cNvSpPr/>
            <p:nvPr/>
          </p:nvSpPr>
          <p:spPr>
            <a:xfrm>
              <a:off x="2971800" y="12952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Arial"/>
              </a:endParaRPr>
            </a:p>
          </p:txBody>
        </p:sp>
        <p:sp>
          <p:nvSpPr>
            <p:cNvPr id="90" name="Text Box 7"/>
            <p:cNvSpPr/>
            <p:nvPr/>
          </p:nvSpPr>
          <p:spPr>
            <a:xfrm>
              <a:off x="30481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Arial"/>
              </a:endParaRPr>
            </a:p>
          </p:txBody>
        </p:sp>
        <p:sp>
          <p:nvSpPr>
            <p:cNvPr id="91" name="Text Box 8"/>
            <p:cNvSpPr/>
            <p:nvPr/>
          </p:nvSpPr>
          <p:spPr>
            <a:xfrm>
              <a:off x="342900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Arial"/>
              </a:endParaRPr>
            </a:p>
          </p:txBody>
        </p:sp>
        <p:sp>
          <p:nvSpPr>
            <p:cNvPr id="92" name="Text Box 9"/>
            <p:cNvSpPr/>
            <p:nvPr/>
          </p:nvSpPr>
          <p:spPr>
            <a:xfrm>
              <a:off x="3733920" y="4191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Arial"/>
              </a:endParaRPr>
            </a:p>
          </p:txBody>
        </p:sp>
        <p:sp>
          <p:nvSpPr>
            <p:cNvPr id="93" name="Text Box 10"/>
            <p:cNvSpPr/>
            <p:nvPr/>
          </p:nvSpPr>
          <p:spPr>
            <a:xfrm>
              <a:off x="41148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a:r>
              <a:endParaRPr b="0" lang="en-US" sz="1400" spc="-1" strike="noStrike">
                <a:solidFill>
                  <a:srgbClr val="ffffff"/>
                </a:solidFill>
                <a:latin typeface="Arial"/>
              </a:endParaRPr>
            </a:p>
          </p:txBody>
        </p:sp>
        <p:sp>
          <p:nvSpPr>
            <p:cNvPr id="94" name="Text Box 11"/>
            <p:cNvSpPr/>
            <p:nvPr/>
          </p:nvSpPr>
          <p:spPr>
            <a:xfrm>
              <a:off x="40384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ffffff"/>
                </a:solidFill>
                <a:latin typeface="Arial"/>
              </a:endParaRPr>
            </a:p>
          </p:txBody>
        </p:sp>
        <p:sp>
          <p:nvSpPr>
            <p:cNvPr id="95" name="Text Box 12"/>
            <p:cNvSpPr/>
            <p:nvPr/>
          </p:nvSpPr>
          <p:spPr>
            <a:xfrm>
              <a:off x="4267080" y="342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ffffff"/>
                </a:solidFill>
                <a:latin typeface="Arial"/>
              </a:endParaRPr>
            </a:p>
          </p:txBody>
        </p:sp>
        <p:sp>
          <p:nvSpPr>
            <p:cNvPr id="96" name="Text Box 13"/>
            <p:cNvSpPr/>
            <p:nvPr/>
          </p:nvSpPr>
          <p:spPr>
            <a:xfrm>
              <a:off x="4724280" y="3276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ffffff"/>
                </a:solidFill>
                <a:latin typeface="Arial"/>
              </a:endParaRPr>
            </a:p>
          </p:txBody>
        </p:sp>
        <p:sp>
          <p:nvSpPr>
            <p:cNvPr id="97" name="Text Box 14"/>
            <p:cNvSpPr/>
            <p:nvPr/>
          </p:nvSpPr>
          <p:spPr>
            <a:xfrm>
              <a:off x="510552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t>
              </a:r>
              <a:endParaRPr b="0" lang="en-US" sz="1400" spc="-1" strike="noStrike">
                <a:solidFill>
                  <a:srgbClr val="ffffff"/>
                </a:solidFill>
                <a:latin typeface="Arial"/>
              </a:endParaRPr>
            </a:p>
          </p:txBody>
        </p:sp>
        <p:sp>
          <p:nvSpPr>
            <p:cNvPr id="98" name="Text Box 15"/>
            <p:cNvSpPr/>
            <p:nvPr/>
          </p:nvSpPr>
          <p:spPr>
            <a:xfrm>
              <a:off x="5410080" y="37339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Arial"/>
              </a:endParaRPr>
            </a:p>
          </p:txBody>
        </p:sp>
        <p:sp>
          <p:nvSpPr>
            <p:cNvPr id="99" name="Text Box 17"/>
            <p:cNvSpPr/>
            <p:nvPr/>
          </p:nvSpPr>
          <p:spPr>
            <a:xfrm>
              <a:off x="5638680" y="36576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ffffff"/>
                </a:solidFill>
                <a:latin typeface="Arial"/>
              </a:endParaRPr>
            </a:p>
          </p:txBody>
        </p:sp>
        <p:sp>
          <p:nvSpPr>
            <p:cNvPr id="100" name="Text Box 18"/>
            <p:cNvSpPr/>
            <p:nvPr/>
          </p:nvSpPr>
          <p:spPr>
            <a:xfrm>
              <a:off x="58672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t>
              </a:r>
              <a:endParaRPr b="0" lang="en-US" sz="1400" spc="-1" strike="noStrike">
                <a:solidFill>
                  <a:srgbClr val="ffffff"/>
                </a:solidFill>
                <a:latin typeface="Arial"/>
              </a:endParaRPr>
            </a:p>
          </p:txBody>
        </p:sp>
        <p:sp>
          <p:nvSpPr>
            <p:cNvPr id="101" name="Text Box 19"/>
            <p:cNvSpPr/>
            <p:nvPr/>
          </p:nvSpPr>
          <p:spPr>
            <a:xfrm>
              <a:off x="617220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a:t>
              </a:r>
              <a:endParaRPr b="0" lang="en-US" sz="1400" spc="-1" strike="noStrike">
                <a:solidFill>
                  <a:srgbClr val="ffffff"/>
                </a:solidFill>
                <a:latin typeface="Arial"/>
              </a:endParaRPr>
            </a:p>
          </p:txBody>
        </p:sp>
        <p:sp>
          <p:nvSpPr>
            <p:cNvPr id="102" name="Text Box 20"/>
            <p:cNvSpPr/>
            <p:nvPr/>
          </p:nvSpPr>
          <p:spPr>
            <a:xfrm>
              <a:off x="6324480" y="3809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ffffff"/>
                </a:solidFill>
                <a:latin typeface="Arial"/>
              </a:endParaRPr>
            </a:p>
          </p:txBody>
        </p:sp>
        <p:sp>
          <p:nvSpPr>
            <p:cNvPr id="103" name="Text Box 21"/>
            <p:cNvSpPr/>
            <p:nvPr/>
          </p:nvSpPr>
          <p:spPr>
            <a:xfrm>
              <a:off x="6477120" y="3276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60" y="3809880"/>
            <a:ext cx="8991720" cy="28958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zig-zag” division of the table divides metals from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to the left of the zig-zag line are metals (except for hydrogen, which is unique) and to the right are non-metal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lements along the border have intermediate properties and are called metalloids.</a:t>
            </a:r>
            <a:endParaRPr b="0" lang="en-US" sz="2400" spc="-1" strike="noStrike">
              <a:solidFill>
                <a:srgbClr val="ffffff"/>
              </a:solidFill>
              <a:latin typeface="Times New Roman"/>
            </a:endParaRPr>
          </a:p>
        </p:txBody>
      </p:sp>
      <p:pic>
        <p:nvPicPr>
          <p:cNvPr id="105" name="Picture 5" descr=""/>
          <p:cNvPicPr/>
          <p:nvPr/>
        </p:nvPicPr>
        <p:blipFill>
          <a:blip r:embed="rId1"/>
          <a:stretch/>
        </p:blipFill>
        <p:spPr>
          <a:xfrm>
            <a:off x="1600200" y="76320"/>
            <a:ext cx="5943600" cy="3630600"/>
          </a:xfrm>
          <a:prstGeom prst="rect">
            <a:avLst/>
          </a:prstGeom>
          <a:ln w="0">
            <a:noFill/>
          </a:ln>
        </p:spPr>
      </p:pic>
      <p:sp>
        <p:nvSpPr>
          <p:cNvPr id="106" name="Text Box 6">
            <a:hlinkClick r:id="rId2"/>
          </p:cNvPr>
          <p:cNvSpPr/>
          <p:nvPr/>
        </p:nvSpPr>
        <p:spPr>
          <a:xfrm>
            <a:off x="8001000" y="6491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133720" y="228240"/>
            <a:ext cx="50292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emical Bonding</a:t>
            </a:r>
            <a:endParaRPr b="0" lang="en-US" sz="32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chemical bond results from strong electrostatic interactions between two atom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ature of the atoms determines the kind of bond.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COVALENT</a:t>
            </a:r>
            <a:r>
              <a:rPr b="1" lang="en-US" sz="2400" spc="-1" strike="noStrike">
                <a:solidFill>
                  <a:srgbClr val="ffffff"/>
                </a:solidFill>
                <a:latin typeface="Arial"/>
                <a:ea typeface="Times New Roman"/>
              </a:rPr>
              <a:t> bonds result from a strong interaction between </a:t>
            </a:r>
            <a:r>
              <a:rPr b="1" lang="en-US" sz="2400" spc="-1" strike="noStrike">
                <a:solidFill>
                  <a:srgbClr val="ffff00"/>
                </a:solidFill>
                <a:latin typeface="Arial"/>
                <a:ea typeface="Times New Roman"/>
              </a:rPr>
              <a:t>NEUTRAL</a:t>
            </a:r>
            <a:r>
              <a:rPr b="1" lang="en-US" sz="2400" spc="-1" strike="noStrike">
                <a:solidFill>
                  <a:srgbClr val="ffffff"/>
                </a:solidFill>
                <a:latin typeface="Arial"/>
                <a:ea typeface="Times New Roman"/>
              </a:rPr>
              <a:t> ato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ach atom donates an electron resulting in a pair of electrons that are SHARED between the two ato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95480" y="0"/>
            <a:ext cx="327672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lectronegativity</a:t>
            </a:r>
            <a:endParaRPr b="0" lang="en-US" sz="2400" spc="-1" strike="noStrike">
              <a:solidFill>
                <a:srgbClr val="ffffff"/>
              </a:solidFill>
              <a:latin typeface="Times New Roman"/>
            </a:endParaRPr>
          </a:p>
        </p:txBody>
      </p:sp>
      <p:sp>
        <p:nvSpPr>
          <p:cNvPr id="108" name="Text Box 4"/>
          <p:cNvSpPr/>
          <p:nvPr/>
        </p:nvSpPr>
        <p:spPr>
          <a:xfrm>
            <a:off x="0" y="838080"/>
            <a:ext cx="89917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ype of bond formed between a pair of atoms is determined by the ability of the atoms to attract electrons from the o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 positively charged ion (</a:t>
            </a:r>
            <a:r>
              <a:rPr b="1" lang="en-US" sz="2400" spc="-1" strike="noStrike">
                <a:solidFill>
                  <a:srgbClr val="ffff00"/>
                </a:solidFill>
                <a:latin typeface="Arial"/>
                <a:ea typeface="Times New Roman"/>
              </a:rPr>
              <a:t>CATION</a:t>
            </a:r>
            <a:r>
              <a:rPr b="1" lang="en-US" sz="2400" spc="-1" strike="noStrike">
                <a:solidFill>
                  <a:srgbClr val="ffffff"/>
                </a:solidFill>
                <a:latin typeface="Arial"/>
                <a:ea typeface="Times New Roman"/>
              </a:rPr>
              <a:t>) is formed when an atom looses one or more electrons and a negatively charged ion (</a:t>
            </a:r>
            <a:r>
              <a:rPr b="1" lang="en-US" sz="2400" spc="-1" strike="noStrike">
                <a:solidFill>
                  <a:srgbClr val="ffff00"/>
                </a:solidFill>
                <a:latin typeface="Arial"/>
                <a:ea typeface="Times New Roman"/>
              </a:rPr>
              <a:t>ANION</a:t>
            </a:r>
            <a:r>
              <a:rPr b="1" lang="en-US" sz="2400" spc="-1" strike="noStrike">
                <a:solidFill>
                  <a:srgbClr val="ffffff"/>
                </a:solidFill>
                <a:latin typeface="Arial"/>
                <a:ea typeface="Times New Roman"/>
              </a:rPr>
              <a:t>) is formed when an atom accepts one or more electron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a free, isolated atom its ability to loose an electron is measured by its </a:t>
            </a:r>
            <a:r>
              <a:rPr b="1" lang="en-US" sz="2400" spc="-1" strike="noStrike">
                <a:solidFill>
                  <a:srgbClr val="ffff00"/>
                </a:solidFill>
                <a:latin typeface="Arial"/>
                <a:ea typeface="Times New Roman"/>
              </a:rPr>
              <a:t>IONIZATION ENERGY</a:t>
            </a:r>
            <a:r>
              <a:rPr b="1" lang="en-US" sz="2400" spc="-1" strike="noStrike">
                <a:solidFill>
                  <a:srgbClr val="ffffff"/>
                </a:solidFill>
                <a:latin typeface="Arial"/>
                <a:ea typeface="Times New Roman"/>
              </a:rPr>
              <a:t>, while the ability to gain an electron is measured by its </a:t>
            </a:r>
            <a:r>
              <a:rPr b="1" lang="en-US" sz="2400" spc="-1" strike="noStrike">
                <a:solidFill>
                  <a:srgbClr val="ffff00"/>
                </a:solidFill>
                <a:latin typeface="Arial"/>
                <a:ea typeface="Times New Roman"/>
              </a:rPr>
              <a:t>ELECTRON AFFI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verage of these two properties for isolated atoms define the atom’s </a:t>
            </a:r>
            <a:r>
              <a:rPr b="1" lang="en-US" sz="2400" spc="-1" strike="noStrike">
                <a:solidFill>
                  <a:srgbClr val="ffff00"/>
                </a:solidFill>
                <a:latin typeface="Arial"/>
                <a:ea typeface="Times New Roman"/>
              </a:rPr>
              <a:t>ELECTRONEGATIVITY</a:t>
            </a:r>
            <a:r>
              <a:rPr b="1" lang="en-US" sz="2400" spc="-1" strike="noStrike">
                <a:solidFill>
                  <a:srgbClr val="ffffff"/>
                </a:solidFill>
                <a:latin typeface="Arial"/>
                <a:ea typeface="Times New Roman"/>
              </a:rPr>
              <a:t> which measures the tendency of one atom to attract electrons from another atom to which it is  bond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Metallic elements loose electrons (to form positive ions) more readily than non-metallic element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elements are hence referred to as being more </a:t>
            </a:r>
            <a:r>
              <a:rPr b="1" lang="en-US" sz="2400" spc="-1" strike="noStrike">
                <a:solidFill>
                  <a:srgbClr val="ffff00"/>
                </a:solidFill>
                <a:latin typeface="Arial"/>
                <a:ea typeface="Times New Roman"/>
              </a:rPr>
              <a:t>ELECTROPOSITIVE</a:t>
            </a:r>
            <a:r>
              <a:rPr b="1" lang="en-US" sz="2400" spc="-1" strike="noStrike">
                <a:solidFill>
                  <a:srgbClr val="ffffff"/>
                </a:solidFill>
                <a:latin typeface="Arial"/>
                <a:ea typeface="Times New Roman"/>
              </a:rPr>
              <a:t> that non-metal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s are more </a:t>
            </a:r>
            <a:r>
              <a:rPr b="1" lang="en-US" sz="2400" spc="-1" strike="noStrike">
                <a:solidFill>
                  <a:srgbClr val="ffff00"/>
                </a:solidFill>
                <a:latin typeface="Arial"/>
                <a:ea typeface="Times New Roman"/>
              </a:rPr>
              <a:t>ELECTRONEGATIVE</a:t>
            </a:r>
            <a:r>
              <a:rPr b="1" lang="en-US" sz="2400" spc="-1" strike="noStrike">
                <a:solidFill>
                  <a:srgbClr val="ffffff"/>
                </a:solidFill>
                <a:latin typeface="Arial"/>
                <a:ea typeface="Times New Roman"/>
              </a:rPr>
              <a:t> compared to me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457200"/>
            <a:ext cx="9144000" cy="2666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periodic table’s arrangement results in a separation of metals from non-metals (metallic nature increasing to the left and down, non metallic increasing right and u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is allows for a comparative scale for the electronegativity of elements.  </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380880" y="457200"/>
            <a:ext cx="8153640" cy="4117320"/>
            <a:chOff x="380880" y="457200"/>
            <a:chExt cx="8153640" cy="4117320"/>
          </a:xfrm>
        </p:grpSpPr>
        <p:sp>
          <p:nvSpPr>
            <p:cNvPr id="113" name="Rectangle 4"/>
            <p:cNvSpPr/>
            <p:nvPr/>
          </p:nvSpPr>
          <p:spPr>
            <a:xfrm>
              <a:off x="380880" y="457200"/>
              <a:ext cx="815364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3" descr=""/>
            <p:cNvPicPr/>
            <p:nvPr/>
          </p:nvPicPr>
          <p:blipFill>
            <a:blip r:embed="rId1"/>
            <a:stretch/>
          </p:blipFill>
          <p:spPr>
            <a:xfrm>
              <a:off x="609480" y="609480"/>
              <a:ext cx="7772400" cy="3114720"/>
            </a:xfrm>
            <a:prstGeom prst="rect">
              <a:avLst/>
            </a:prstGeom>
            <a:ln w="0">
              <a:noFill/>
            </a:ln>
          </p:spPr>
        </p:pic>
        <p:sp>
          <p:nvSpPr>
            <p:cNvPr id="115" name="Text Box 5"/>
            <p:cNvSpPr/>
            <p:nvPr/>
          </p:nvSpPr>
          <p:spPr>
            <a:xfrm>
              <a:off x="2438280" y="4114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egativity Scale</a:t>
              </a:r>
              <a:endParaRPr b="0" lang="en-US" sz="2400" spc="-1" strike="noStrike">
                <a:solidFill>
                  <a:srgbClr val="ffffff"/>
                </a:solidFill>
                <a:latin typeface="Arial"/>
              </a:endParaRPr>
            </a:p>
          </p:txBody>
        </p:sp>
      </p:grpSp>
      <p:sp>
        <p:nvSpPr>
          <p:cNvPr id="116" name="Text Box 6"/>
          <p:cNvSpPr/>
          <p:nvPr/>
        </p:nvSpPr>
        <p:spPr>
          <a:xfrm>
            <a:off x="0" y="50292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luorine is the most electronegative element, and francium the least electronegative.</a:t>
            </a:r>
            <a:endParaRPr b="0" lang="en-US" sz="2400" spc="-1" strike="noStrike">
              <a:solidFill>
                <a:srgbClr val="ffffff"/>
              </a:solidFill>
              <a:latin typeface="Arial"/>
            </a:endParaRPr>
          </a:p>
        </p:txBody>
      </p:sp>
      <p:sp>
        <p:nvSpPr>
          <p:cNvPr id="117" name="Text Box 8">
            <a:hlinkClick r:id="rId2"/>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0" y="0"/>
            <a:ext cx="914400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rge differences in electronegativity between two bonded atoms favor the transfer of electrons from the less electronegative (more electropositive) atom to the more electronegative atom resulting in a bond between the two atoms that is IONIC.</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maller differences result in a more equitable “sharing” of electrons between the bonded atoms, resulting in a COVALENT bond between the two atom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kinds of bonds formed between elements (covalent vs ionic) can be determined by comparing electronegativity of the two elements.</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Text Box 3">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75960" y="3962160"/>
            <a:ext cx="8915400" cy="281916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and Cl form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 gives up an electron and Cl accepts the electron to form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nd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differences between electronegativity between the two bonding elements decreases, there is more equitable sharing of electrons and the elements form covalent bonds.</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p:txBody>
      </p:sp>
      <p:pic>
        <p:nvPicPr>
          <p:cNvPr id="121" name="Picture 5" descr=""/>
          <p:cNvPicPr/>
          <p:nvPr/>
        </p:nvPicPr>
        <p:blipFill>
          <a:blip r:embed="rId1"/>
          <a:stretch/>
        </p:blipFill>
        <p:spPr>
          <a:xfrm>
            <a:off x="1600200" y="76320"/>
            <a:ext cx="5943600" cy="363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75960"/>
            <a:ext cx="9220320" cy="6629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ased on the position of elements in the periodic table, we can determine the kind of bond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nmetallic element + nonmetallic element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Molecular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lecular compounds are typically gases, liquids, or low melting point solids and are characteristically poor conductors. Examples ar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N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3"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1920" y="228240"/>
            <a:ext cx="899172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nerally,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etallic compound + nonmetallic compound </a:t>
            </a:r>
            <a:r>
              <a:rPr b="1" lang="en-US" sz="2400" spc="-1" strike="noStrike">
                <a:solidFill>
                  <a:srgbClr val="ffffff"/>
                </a:solidFill>
                <a:latin typeface="Wingdings"/>
                <a:ea typeface="Wingdings"/>
              </a:rPr>
              <a:t></a:t>
            </a:r>
            <a:r>
              <a:rPr b="1" lang="en-US" sz="2400" spc="-1" strike="noStrike">
                <a:solidFill>
                  <a:srgbClr val="ffffff"/>
                </a:solidFill>
                <a:latin typeface="Arial"/>
                <a:ea typeface="Times New Roman"/>
              </a:rPr>
              <a:t> IONIC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onic compounds are generally high-melting solids that are good conductors of heat and electricity in the molten stat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s are NaCl, common salt, and NaF, sodium fluorid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Text Box 4">
            <a:hlinkClick r:id="rId1"/>
          </p:cNvPr>
          <p:cNvSpPr/>
          <p:nvPr/>
        </p:nvSpPr>
        <p:spPr>
          <a:xfrm>
            <a:off x="8001000" y="648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51920" y="914400"/>
            <a:ext cx="8991720" cy="5486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chemical formula represents the composition of each molecul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writing the chemical formula, in almost all cases </a:t>
            </a:r>
            <a:r>
              <a:rPr b="1" lang="en-US" sz="2400" spc="-1" strike="noStrike">
                <a:solidFill>
                  <a:srgbClr val="ffff00"/>
                </a:solidFill>
                <a:latin typeface="Arial"/>
                <a:ea typeface="Times New Roman"/>
              </a:rPr>
              <a:t>the element farthest to the left of the periodic table is written first</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for example the chemical formula of a compound that contains one sulfur atom and six fluorine atoms is 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the two elements are in the same period, the symbol of the element of that is lower in the group (i.e. heavier) is written first e.g. IF</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
        <p:nvSpPr>
          <p:cNvPr id="127" name="Text Box 3"/>
          <p:cNvSpPr/>
          <p:nvPr/>
        </p:nvSpPr>
        <p:spPr>
          <a:xfrm>
            <a:off x="259092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AMING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0" y="0"/>
            <a:ext cx="9220320" cy="4952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 naming covalent compounds, the name of the first element in the formula is unchang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suffix “-ide”  is added to the second elemen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ften a prefix to the name of the second element indicates the number of the element in the compou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F</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 sulfur hexaflu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O</a:t>
            </a:r>
            <a:r>
              <a:rPr b="1" lang="en-US" sz="2400" spc="-1" strike="noStrike" baseline="-25000">
                <a:solidFill>
                  <a:srgbClr val="ffffff"/>
                </a:solidFill>
                <a:latin typeface="Arial"/>
                <a:ea typeface="Times New Roman"/>
              </a:rPr>
              <a:t>10</a:t>
            </a:r>
            <a:r>
              <a:rPr b="1" lang="en-US" sz="2400" spc="-1" strike="noStrike">
                <a:solidFill>
                  <a:srgbClr val="ffffff"/>
                </a:solidFill>
                <a:latin typeface="Arial"/>
                <a:ea typeface="Times New Roman"/>
              </a:rPr>
              <a:t> – tetraphosphorous dec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 – carbon mon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rbon dioxide</a:t>
            </a:r>
            <a:endParaRPr b="0" lang="en-US" sz="24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1920" y="151920"/>
            <a:ext cx="8991720" cy="48769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consider a hydrogen molecule,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When the two hydrogen, H, atoms are far apart from each other they do not feel any interaction.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s they come closer each “feels” the presence of the ot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electron on each H atom occupies a volume that covers both H atoms and a COVALENT bond is form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nce the bond has been formed, the two electrons are shared by BOTH H atom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0"/>
            <a:ext cx="8839080" cy="1371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inary compounds of hydrogen are special cases.  They were discovered before a convention was adopted and hence their original names have staye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3"/>
          <p:cNvSpPr/>
          <p:nvPr/>
        </p:nvSpPr>
        <p:spPr>
          <a:xfrm>
            <a:off x="0" y="2514600"/>
            <a:ext cx="8991720" cy="32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ydrogen forms binary compounds with almost all non-metals except the noble ga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xamp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F - hydrogen fluor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Cl - hydrogen chlori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S - hydrogen sulf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Text Box 4"/>
          <p:cNvSpPr/>
          <p:nvPr/>
        </p:nvSpPr>
        <p:spPr>
          <a:xfrm>
            <a:off x="0" y="1523880"/>
            <a:ext cx="8610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H</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O is not called dihydrogen monox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762120"/>
            <a:ext cx="9144000" cy="4114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ganic molecules (containing C) have a separate nomenclatu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molecular formulas for compounds containing C and H (called hydrocarbons) are written with C first.  Example, CH</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C</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H</a:t>
            </a:r>
            <a:r>
              <a:rPr b="1" lang="en-US" sz="2400" spc="-1" strike="noStrike" baseline="-25000">
                <a:solidFill>
                  <a:srgbClr val="ffffff"/>
                </a:solidFill>
                <a:latin typeface="Arial"/>
                <a:ea typeface="Times New Roman"/>
              </a:rPr>
              <a:t>6</a:t>
            </a:r>
            <a:r>
              <a:rPr b="1" lang="en-US" sz="2400" spc="-1" strike="noStrike">
                <a:solidFill>
                  <a:srgbClr val="ffffff"/>
                </a:solidFill>
                <a:latin typeface="Arial"/>
                <a:ea typeface="Times New Roman"/>
              </a:rPr>
              <a:t>, et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BINARY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mpounds formed by elements on opposite sides of the periodic table which either give up (left side) or take up electrons (right side).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ending on the atom, there can be an exchange of more than one electron resulting in charges greater than ±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320" y="3352680"/>
            <a:ext cx="9067680" cy="32004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A – alkali metals – loose 1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 A– alkaline earth metals –loose 2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II A– loose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Al</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IV A– loose four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4 (Sn</a:t>
            </a:r>
            <a:r>
              <a:rPr b="1" lang="en-US" sz="2400" spc="-1" strike="noStrike" baseline="30000">
                <a:solidFill>
                  <a:srgbClr val="ffffff"/>
                </a:solidFill>
                <a:latin typeface="Arial"/>
                <a:ea typeface="Times New Roman"/>
              </a:rPr>
              <a:t>+4</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 A– accept thre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3 (N</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 A– accept two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2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up VIIA – accept one e</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to form  –1 (Cl</a:t>
            </a:r>
            <a:r>
              <a:rPr b="1" lang="en-US" sz="2400" spc="-1" strike="noStrike" baseline="30000">
                <a:solidFill>
                  <a:srgbClr val="ffffff"/>
                </a:solidFill>
                <a:latin typeface="Arial"/>
                <a:ea typeface="Times New Roman"/>
              </a:rPr>
              <a:t>-1</a:t>
            </a:r>
            <a:r>
              <a:rPr b="1" lang="en-US"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pic>
        <p:nvPicPr>
          <p:cNvPr id="135" name="Picture 3" descr=""/>
          <p:cNvPicPr/>
          <p:nvPr/>
        </p:nvPicPr>
        <p:blipFill>
          <a:blip r:embed="rId1"/>
          <a:stretch/>
        </p:blipFill>
        <p:spPr>
          <a:xfrm>
            <a:off x="1905120" y="76320"/>
            <a:ext cx="4647960" cy="316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 y="228240"/>
            <a:ext cx="8839080" cy="5638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ming IONIC compound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ions – suffix – “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Cl</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xygen O</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is OX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SULF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Na</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Ca</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the name of the ion is the same except refer to the 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SODIUM ION or SODIUM C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aCl - sod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aCl</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calcium chlorid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60" y="395280"/>
            <a:ext cx="8839080" cy="31240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valent, charged compounds -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sitive Molecular 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nd the name with “ium” or “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H</a:t>
            </a:r>
            <a:r>
              <a:rPr b="1" lang="en-US" sz="2400" spc="-1" strike="noStrike" baseline="-25000">
                <a:solidFill>
                  <a:srgbClr val="ffffff"/>
                </a:solidFill>
                <a:latin typeface="Arial"/>
                <a:ea typeface="Times New Roman"/>
              </a:rPr>
              <a:t>4</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ammonium, H</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O </a:t>
            </a:r>
            <a:r>
              <a:rPr b="1" lang="en-US" sz="2400" spc="-1" strike="noStrike" baseline="30000">
                <a:solidFill>
                  <a:srgbClr val="ffffff"/>
                </a:solidFill>
                <a:latin typeface="Arial"/>
                <a:ea typeface="Times New Roman"/>
              </a:rPr>
              <a:t>+</a:t>
            </a:r>
            <a:r>
              <a:rPr b="1" lang="en-US" sz="2400" spc="-1" strike="noStrike">
                <a:solidFill>
                  <a:srgbClr val="ffffff"/>
                </a:solidFill>
                <a:latin typeface="Arial"/>
                <a:ea typeface="Times New Roman"/>
              </a:rPr>
              <a:t> is hydroni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egative Molecular Ion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 name="Group 21"/>
          <p:cNvGrpSpPr/>
          <p:nvPr/>
        </p:nvGrpSpPr>
        <p:grpSpPr>
          <a:xfrm>
            <a:off x="0" y="3914640"/>
            <a:ext cx="3200400" cy="2691360"/>
            <a:chOff x="0" y="3914640"/>
            <a:chExt cx="3200400" cy="2691360"/>
          </a:xfrm>
        </p:grpSpPr>
        <p:grpSp>
          <p:nvGrpSpPr>
            <p:cNvPr id="139" name="Group 8"/>
            <p:cNvGrpSpPr/>
            <p:nvPr/>
          </p:nvGrpSpPr>
          <p:grpSpPr>
            <a:xfrm>
              <a:off x="76320" y="3914640"/>
              <a:ext cx="3124080" cy="648000"/>
              <a:chOff x="76320" y="3914640"/>
              <a:chExt cx="3124080" cy="648000"/>
            </a:xfrm>
          </p:grpSpPr>
          <p:sp>
            <p:nvSpPr>
              <p:cNvPr id="140" name="Text Box 6"/>
              <p:cNvSpPr/>
              <p:nvPr/>
            </p:nvSpPr>
            <p:spPr>
              <a:xfrm>
                <a:off x="533520" y="3914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1" name="Rectangle 7"/>
              <p:cNvSpPr/>
              <p:nvPr/>
            </p:nvSpPr>
            <p:spPr>
              <a:xfrm>
                <a:off x="76320" y="40525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3</a:t>
                </a:r>
                <a:r>
                  <a:rPr b="1" lang="en-US" sz="2400" spc="-1" strike="noStrike">
                    <a:solidFill>
                      <a:srgbClr val="ffffff"/>
                    </a:solidFill>
                    <a:latin typeface="Arial"/>
                    <a:ea typeface="Times New Roman"/>
                  </a:rPr>
                  <a:t> - NITRATE</a:t>
                </a:r>
                <a:endParaRPr b="0" lang="en-US" sz="2400" spc="-1" strike="noStrike">
                  <a:solidFill>
                    <a:srgbClr val="ffffff"/>
                  </a:solidFill>
                  <a:latin typeface="Arial"/>
                </a:endParaRPr>
              </a:p>
            </p:txBody>
          </p:sp>
        </p:grpSp>
        <p:grpSp>
          <p:nvGrpSpPr>
            <p:cNvPr id="142" name="Group 12"/>
            <p:cNvGrpSpPr/>
            <p:nvPr/>
          </p:nvGrpSpPr>
          <p:grpSpPr>
            <a:xfrm>
              <a:off x="0" y="4586040"/>
              <a:ext cx="3124080" cy="648360"/>
              <a:chOff x="0" y="4586040"/>
              <a:chExt cx="3124080" cy="648360"/>
            </a:xfrm>
          </p:grpSpPr>
          <p:sp>
            <p:nvSpPr>
              <p:cNvPr id="143" name="Text Box 13"/>
              <p:cNvSpPr/>
              <p:nvPr/>
            </p:nvSpPr>
            <p:spPr>
              <a:xfrm>
                <a:off x="457200" y="45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4" name="Rectangle 14"/>
              <p:cNvSpPr/>
              <p:nvPr/>
            </p:nvSpPr>
            <p:spPr>
              <a:xfrm>
                <a:off x="0" y="47242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SULFATE</a:t>
                </a:r>
                <a:endParaRPr b="0" lang="en-US" sz="2400" spc="-1" strike="noStrike">
                  <a:solidFill>
                    <a:srgbClr val="ffffff"/>
                  </a:solidFill>
                  <a:latin typeface="Arial"/>
                </a:endParaRPr>
              </a:p>
            </p:txBody>
          </p:sp>
        </p:grpSp>
        <p:grpSp>
          <p:nvGrpSpPr>
            <p:cNvPr id="145" name="Group 15"/>
            <p:cNvGrpSpPr/>
            <p:nvPr/>
          </p:nvGrpSpPr>
          <p:grpSpPr>
            <a:xfrm>
              <a:off x="0" y="5271840"/>
              <a:ext cx="3124080" cy="648360"/>
              <a:chOff x="0" y="5271840"/>
              <a:chExt cx="3124080" cy="648360"/>
            </a:xfrm>
          </p:grpSpPr>
          <p:sp>
            <p:nvSpPr>
              <p:cNvPr id="146" name="Text Box 16"/>
              <p:cNvSpPr/>
              <p:nvPr/>
            </p:nvSpPr>
            <p:spPr>
              <a:xfrm>
                <a:off x="457200" y="5271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47" name="Rectangle 17"/>
              <p:cNvSpPr/>
              <p:nvPr/>
            </p:nvSpPr>
            <p:spPr>
              <a:xfrm>
                <a:off x="0" y="54100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a:t>
                </a:r>
                <a:r>
                  <a:rPr b="1" lang="en-US" sz="2400" spc="-1" strike="noStrike" baseline="-25000">
                    <a:solidFill>
                      <a:srgbClr val="ffffff"/>
                    </a:solidFill>
                    <a:latin typeface="Arial"/>
                    <a:ea typeface="Times New Roman"/>
                  </a:rPr>
                  <a:t>2</a:t>
                </a:r>
                <a:r>
                  <a:rPr b="1" lang="en-US" sz="2400" spc="-1" strike="noStrike">
                    <a:solidFill>
                      <a:srgbClr val="ffffff"/>
                    </a:solidFill>
                    <a:latin typeface="Arial"/>
                    <a:ea typeface="Times New Roman"/>
                  </a:rPr>
                  <a:t> - NITRITE</a:t>
                </a:r>
                <a:endParaRPr b="0" lang="en-US" sz="2400" spc="-1" strike="noStrike">
                  <a:solidFill>
                    <a:srgbClr val="ffffff"/>
                  </a:solidFill>
                  <a:latin typeface="Arial"/>
                </a:endParaRPr>
              </a:p>
            </p:txBody>
          </p:sp>
        </p:grpSp>
        <p:grpSp>
          <p:nvGrpSpPr>
            <p:cNvPr id="148" name="Group 18"/>
            <p:cNvGrpSpPr/>
            <p:nvPr/>
          </p:nvGrpSpPr>
          <p:grpSpPr>
            <a:xfrm>
              <a:off x="0" y="5957640"/>
              <a:ext cx="3124080" cy="648360"/>
              <a:chOff x="0" y="5957640"/>
              <a:chExt cx="3124080" cy="648360"/>
            </a:xfrm>
          </p:grpSpPr>
          <p:sp>
            <p:nvSpPr>
              <p:cNvPr id="149" name="Text Box 19"/>
              <p:cNvSpPr/>
              <p:nvPr/>
            </p:nvSpPr>
            <p:spPr>
              <a:xfrm>
                <a:off x="457200" y="5957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50" name="Rectangle 20"/>
              <p:cNvSpPr/>
              <p:nvPr/>
            </p:nvSpPr>
            <p:spPr>
              <a:xfrm>
                <a:off x="0" y="609588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a:t>
                </a:r>
                <a:r>
                  <a:rPr b="1" lang="en-US" sz="2400" spc="-1" strike="noStrike" baseline="-25000">
                    <a:solidFill>
                      <a:srgbClr val="ffffff"/>
                    </a:solidFill>
                    <a:latin typeface="Arial"/>
                    <a:ea typeface="Times New Roman"/>
                  </a:rPr>
                  <a:t>4</a:t>
                </a:r>
                <a:r>
                  <a:rPr b="1" lang="en-US" sz="2400" spc="-1" strike="noStrike">
                    <a:solidFill>
                      <a:srgbClr val="ffffff"/>
                    </a:solidFill>
                    <a:latin typeface="Arial"/>
                    <a:ea typeface="Times New Roman"/>
                  </a:rPr>
                  <a:t> - PHOSPHATE</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4419360"/>
            <a:ext cx="9144000" cy="2438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ransition elements are chemically quite different from the metals in the “A” block, due to differences in electronic configuratio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r example, Fe can loose two or three electrons to become Fe</a:t>
            </a:r>
            <a:r>
              <a:rPr b="1" lang="en-US" sz="2400" spc="-1" strike="noStrike" baseline="30000">
                <a:solidFill>
                  <a:srgbClr val="ffffff"/>
                </a:solidFill>
                <a:latin typeface="Arial"/>
                <a:ea typeface="Times New Roman"/>
              </a:rPr>
              <a:t>2+</a:t>
            </a:r>
            <a:r>
              <a:rPr b="1" lang="en-US" sz="2400" spc="-1" strike="noStrike">
                <a:solidFill>
                  <a:srgbClr val="ffffff"/>
                </a:solidFill>
                <a:latin typeface="Arial"/>
                <a:ea typeface="Times New Roman"/>
              </a:rPr>
              <a:t> and 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respectivel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1027" descr=""/>
          <p:cNvPicPr/>
          <p:nvPr/>
        </p:nvPicPr>
        <p:blipFill>
          <a:blip r:embed="rId1"/>
          <a:stretch/>
        </p:blipFill>
        <p:spPr>
          <a:xfrm>
            <a:off x="1600200" y="609480"/>
            <a:ext cx="5943600" cy="3630600"/>
          </a:xfrm>
          <a:prstGeom prst="rect">
            <a:avLst/>
          </a:prstGeom>
          <a:ln w="0">
            <a:noFill/>
          </a:ln>
        </p:spPr>
      </p:pic>
      <p:sp>
        <p:nvSpPr>
          <p:cNvPr id="153" name="Text Box 1028"/>
          <p:cNvSpPr/>
          <p:nvPr/>
        </p:nvSpPr>
        <p:spPr>
          <a:xfrm>
            <a:off x="2895480" y="763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El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151920"/>
            <a:ext cx="8839080" cy="3886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 identify the charge of Fe in a compound the following nomenclature is used.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2+ </a:t>
            </a:r>
            <a:r>
              <a:rPr b="1" lang="en-US" sz="2400" spc="-1" strike="noStrike">
                <a:solidFill>
                  <a:srgbClr val="ffffff"/>
                </a:solidFill>
                <a:latin typeface="Arial"/>
                <a:ea typeface="Times New Roman"/>
              </a:rPr>
              <a:t>is iron(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a:t>
            </a:r>
            <a:r>
              <a:rPr b="1" lang="en-US" sz="2400" spc="-1" strike="noStrike" baseline="30000">
                <a:solidFill>
                  <a:srgbClr val="ffffff"/>
                </a:solidFill>
                <a:latin typeface="Arial"/>
                <a:ea typeface="Times New Roman"/>
              </a:rPr>
              <a:t>3+</a:t>
            </a:r>
            <a:r>
              <a:rPr b="1" lang="en-US" sz="2400" spc="-1" strike="noStrike">
                <a:solidFill>
                  <a:srgbClr val="ffffff"/>
                </a:solidFill>
                <a:latin typeface="Arial"/>
                <a:ea typeface="Times New Roman"/>
              </a:rPr>
              <a:t> is iron (II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o iron(III) chloride is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n older scheme differentiated between the lower and higher charge by ending the name of the element with “ous” to indicate the lower charge and “ic” for the higher.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ous chloride =&gt; FeCl</a:t>
            </a:r>
            <a:r>
              <a:rPr b="1" lang="en-US" sz="2400" spc="-1" strike="noStrike" baseline="-25000">
                <a:solidFill>
                  <a:srgbClr val="ffffff"/>
                </a:solidFill>
                <a:latin typeface="Arial"/>
                <a:ea typeface="Times New Roman"/>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erric chloride =&gt; FeCl</a:t>
            </a:r>
            <a:r>
              <a:rPr b="1" lang="en-US" sz="2400" spc="-1" strike="noStrike" baseline="-25000">
                <a:solidFill>
                  <a:srgbClr val="ffffff"/>
                </a:solidFill>
                <a:latin typeface="Arial"/>
                <a:ea typeface="Times New Roman"/>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However, this convention does not indicate the numerical value of the charg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54">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081080"/>
            <a:ext cx="891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ectron density plot for the H</a:t>
            </a:r>
            <a:r>
              <a:rPr b="1" lang="en-US" sz="2400" spc="-1" strike="noStrike" baseline="-25000">
                <a:solidFill>
                  <a:srgbClr val="ffffff"/>
                </a:solidFill>
                <a:latin typeface="Arial"/>
              </a:rPr>
              <a:t>2</a:t>
            </a:r>
            <a:r>
              <a:rPr b="1" lang="en-US" sz="2400" spc="-1" strike="noStrike">
                <a:solidFill>
                  <a:srgbClr val="ffffff"/>
                </a:solidFill>
                <a:latin typeface="Arial"/>
              </a:rPr>
              <a:t> molecule shows that the shared electrons occupy a volume equally distributed over BOTH H atoms.</a:t>
            </a:r>
            <a:endParaRPr b="0" lang="en-US" sz="2400" spc="-1" strike="noStrike">
              <a:solidFill>
                <a:srgbClr val="ffffff"/>
              </a:solidFill>
              <a:latin typeface="Arial"/>
            </a:endParaRPr>
          </a:p>
        </p:txBody>
      </p:sp>
      <p:grpSp>
        <p:nvGrpSpPr>
          <p:cNvPr id="53" name="Group 12"/>
          <p:cNvGrpSpPr/>
          <p:nvPr/>
        </p:nvGrpSpPr>
        <p:grpSpPr>
          <a:xfrm>
            <a:off x="2057400" y="2666880"/>
            <a:ext cx="5257800" cy="2720160"/>
            <a:chOff x="2057400" y="2666880"/>
            <a:chExt cx="5257800" cy="2720160"/>
          </a:xfrm>
        </p:grpSpPr>
        <p:pic>
          <p:nvPicPr>
            <p:cNvPr id="54" name="Picture 10" descr=""/>
            <p:cNvPicPr/>
            <p:nvPr/>
          </p:nvPicPr>
          <p:blipFill>
            <a:blip r:embed="rId1"/>
            <a:stretch/>
          </p:blipFill>
          <p:spPr>
            <a:xfrm>
              <a:off x="2819520" y="2666880"/>
              <a:ext cx="3124080" cy="2081160"/>
            </a:xfrm>
            <a:prstGeom prst="rect">
              <a:avLst/>
            </a:prstGeom>
            <a:ln w="0">
              <a:noFill/>
            </a:ln>
          </p:spPr>
        </p:pic>
        <p:sp>
          <p:nvSpPr>
            <p:cNvPr id="55" name="Text Box 11"/>
            <p:cNvSpPr/>
            <p:nvPr/>
          </p:nvSpPr>
          <p:spPr>
            <a:xfrm>
              <a:off x="2057400" y="4876920"/>
              <a:ext cx="52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Density for the H</a:t>
              </a:r>
              <a:r>
                <a:rPr b="0" lang="en-US" sz="2400" spc="-1" strike="noStrike" baseline="-25000">
                  <a:solidFill>
                    <a:srgbClr val="ffffff"/>
                  </a:solidFill>
                  <a:latin typeface="Arial"/>
                </a:rPr>
                <a:t>2</a:t>
              </a:r>
              <a:r>
                <a:rPr b="0" lang="en-US" sz="2400" spc="-1" strike="noStrike">
                  <a:solidFill>
                    <a:srgbClr val="ffffff"/>
                  </a:solidFill>
                  <a:latin typeface="Arial"/>
                </a:rPr>
                <a:t> molecul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2362320" y="457200"/>
            <a:ext cx="3913200" cy="5791320"/>
          </a:xfrm>
          <a:prstGeom prst="rect">
            <a:avLst/>
          </a:prstGeom>
          <a:ln w="0">
            <a:noFill/>
          </a:ln>
        </p:spPr>
      </p:pic>
      <p:sp>
        <p:nvSpPr>
          <p:cNvPr id="57" name="Text Box 4"/>
          <p:cNvSpPr/>
          <p:nvPr/>
        </p:nvSpPr>
        <p:spPr>
          <a:xfrm rot="16200000">
            <a:off x="291960" y="29840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58" name="Text Box 5"/>
          <p:cNvSpPr/>
          <p:nvPr/>
        </p:nvSpPr>
        <p:spPr>
          <a:xfrm>
            <a:off x="62485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304920" y="457200"/>
            <a:ext cx="8153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t is also possible that, as two atoms come closer, one electron is transferred to the other at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tom that gives up an electron acquires a +1 charge and the other atom, which accepts the electron acquires a –1 char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two atoms are attracted to each other through Coulombic interactions – opposite charges attract – resulting in an IONIC bo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6"/>
          <p:cNvSpPr/>
          <p:nvPr/>
        </p:nvSpPr>
        <p:spPr>
          <a:xfrm>
            <a:off x="7543800" y="6491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i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133720" y="533520"/>
            <a:ext cx="3913200" cy="5790960"/>
          </a:xfrm>
          <a:prstGeom prst="rect">
            <a:avLst/>
          </a:prstGeom>
          <a:ln w="0">
            <a:noFill/>
          </a:ln>
        </p:spPr>
      </p:pic>
      <p:sp>
        <p:nvSpPr>
          <p:cNvPr id="62" name="Text Box 3"/>
          <p:cNvSpPr/>
          <p:nvPr/>
        </p:nvSpPr>
        <p:spPr>
          <a:xfrm rot="16200000">
            <a:off x="138240" y="298584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energy (kJ/mol)</a:t>
            </a:r>
            <a:endParaRPr b="0" lang="en-US" sz="1800" spc="-1" strike="noStrike">
              <a:solidFill>
                <a:srgbClr val="ffffff"/>
              </a:solidFill>
              <a:latin typeface="Arial"/>
            </a:endParaRPr>
          </a:p>
        </p:txBody>
      </p:sp>
      <p:sp>
        <p:nvSpPr>
          <p:cNvPr id="63" name="Text Box 4"/>
          <p:cNvSpPr/>
          <p:nvPr/>
        </p:nvSpPr>
        <p:spPr>
          <a:xfrm>
            <a:off x="6019920" y="33526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ion (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151920"/>
            <a:ext cx="9144000" cy="6248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hat factors determine if an atom forms a covalent or ionic bond with another ato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number of electrons in an atom, particularly the number of the electrons furthest away from the nucleus determines the atom’s reactivity and hence its tendency to form covalent or ionic bonds.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se outermost electrons are the one’s that are more likely to “feel” the presence of other atoms and hence the one’s involved in bonding i.e. in reaction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hemistry of an element depends almost entirely on the number of electrons, and hence its atomic numbe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514240" y="0"/>
            <a:ext cx="3809880" cy="5335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THE PERIODIC TABL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Text Box 5"/>
          <p:cNvSpPr/>
          <p:nvPr/>
        </p:nvSpPr>
        <p:spPr>
          <a:xfrm>
            <a:off x="0" y="8380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y the late 1800’s it was realized that elements could be grouped by similar chemical properties and that the </a:t>
            </a:r>
            <a:r>
              <a:rPr b="1" lang="en-US" sz="2400" spc="-1" strike="noStrike">
                <a:solidFill>
                  <a:srgbClr val="ffff00"/>
                </a:solidFill>
                <a:latin typeface="Arial"/>
                <a:ea typeface="Times New Roman"/>
              </a:rPr>
              <a:t>chemical and physical properties of elements are periodic functions of their atomic numbers</a:t>
            </a:r>
            <a:r>
              <a:rPr b="1" lang="en-US" sz="2400" spc="-1" strike="noStrike">
                <a:solidFill>
                  <a:srgbClr val="ffffff"/>
                </a:solidFill>
                <a:latin typeface="Arial"/>
                <a:ea typeface="Times New Roman"/>
              </a:rPr>
              <a:t> – </a:t>
            </a:r>
            <a:r>
              <a:rPr b="1" lang="en-US" sz="2400" spc="-1" strike="noStrike">
                <a:solidFill>
                  <a:srgbClr val="ffff00"/>
                </a:solidFill>
                <a:latin typeface="Arial"/>
                <a:ea typeface="Times New Roman"/>
              </a:rPr>
              <a:t>PERIODIC LAW</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rrangements of the elements in order of increasing atomic number, with elements having similar properties placed in a vertical column, is called the PERIODIC TABL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17:10:42Z</dcterms:created>
  <dc:creator>B. Venkataraman</dc:creator>
  <dc:description/>
  <dc:language>en-US</dc:language>
  <cp:lastModifiedBy>RomaK</cp:lastModifiedBy>
  <cp:lastPrinted>2000-09-20T18:35:52Z</cp:lastPrinted>
  <dcterms:modified xsi:type="dcterms:W3CDTF">2015-09-01T16:20:53Z</dcterms:modified>
  <cp:revision>306</cp:revision>
  <dc:subject/>
  <dc:title>Matter and Measurement</dc:title>
</cp:coreProperties>
</file>